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6B45-6D59-475C-863B-FA7171F6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90694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814200"/>
            <a:ext cx="90694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2D1-1F43-4CF4-8FE2-8D49B38F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0AE9-3D53-438F-B905-E4696151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23760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23760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8142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8142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8142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D508-5D4C-441B-A61C-3472FD25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D050-E41F-4A37-87EE-4DD4F6BD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2376000"/>
            <a:ext cx="906948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5395-BB40-41F6-AF99-561661D5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906948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DBFB-ECAF-4763-A376-69F5D3A5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809B-D31D-44D4-B2A4-143F3AAF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6F18-A8C7-4FC5-84B2-7419B4FB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809640"/>
            <a:ext cx="9069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D4A4-6367-4CBE-BA36-A26ADB3B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250E-2DC8-4416-9520-F3102456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2376000"/>
            <a:ext cx="906948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09B9-F142-419C-A613-11BEF03C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C23F-4003-464E-A397-B0CE4A6D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3814200"/>
            <a:ext cx="90694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9BCF-B59D-40CF-9506-99D2D702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90694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3814200"/>
            <a:ext cx="90694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A6DC-5903-4A69-B924-A73E5F8D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34FA-17D8-410A-973F-CDA742DD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23760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23760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38142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38142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38142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E8F0-1ECD-4AFB-8C49-8F33F6F1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D97B1-5DE9-4E6F-A47E-6D678069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2376000"/>
            <a:ext cx="906948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F067D-F52D-4F45-A286-D91F02C8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906948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0FAF7-74DE-4AB6-837C-4414C705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CFC8D-317C-4657-ABA0-92705DC4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EE694-7464-4078-B94E-137AB99B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906948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BC50-EFA1-46C3-A8D6-3E131D1A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809640"/>
            <a:ext cx="9069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7D2DA-9107-4FC0-942B-47B9A6DB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810F6-4FF5-4D89-A8C4-96A0A488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AAE5F-4529-4808-8667-57ACCCC7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3814200"/>
            <a:ext cx="90694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13F07-FF60-4162-B9C9-72B17906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90694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3814200"/>
            <a:ext cx="90694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F959E-2EC1-4DC6-A2EF-59D5F2B1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A118D-DDBA-4E48-A96C-B7E571A0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23760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23760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38142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38142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38142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08A64-C8BD-4BC4-96D3-C440D3D8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48CA4-D55D-416C-BE5A-86385260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2376000"/>
            <a:ext cx="906948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A650C-D531-47FD-AB4C-F497D649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906948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50179-ECF7-45DF-866A-AB0B31E8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C907-08F6-40F5-98ED-CCFA2656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1DC5B-C563-4EA2-91F9-50C38DFC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AD40F-89FD-47E6-8664-BC05A033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809640"/>
            <a:ext cx="9069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EE874-3D24-4031-87E6-429D8728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29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D4295-62DD-483E-8714-3D36C263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05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F2290-D021-40BE-9DCD-BBFDB203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920" y="3814200"/>
            <a:ext cx="90694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99928-C8D1-43B6-BCAF-E8DA27DF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90694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20" y="3814200"/>
            <a:ext cx="90694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BA2AF-C09E-4FA6-B3B4-B0BD03B0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29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05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011A8-65F1-405E-89D4-402B3333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23760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5520" y="23760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2920" y="38142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38142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5520" y="38142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68BAD-0E44-46A3-9C4D-3B6735FE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DBB1-BC7E-4DBF-BB2F-94215086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809640"/>
            <a:ext cx="9069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8CEF-D2BF-40B4-B736-2D7ED768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E5BF-B446-4F11-BA4C-298203BD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F9C1-57F5-4C3B-ABD7-FEB71BE3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814200"/>
            <a:ext cx="90694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5612-30EB-431F-BCAC-32B930CB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2376000"/>
            <a:ext cx="906948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64000"/>
          </a:bodyPr>
          <a:p>
            <a:pPr marL="219240" indent="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19240" indent="-21924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19240" indent="-21924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19240" indent="-21924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9240" indent="-21924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9240" indent="-21924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9240" indent="-21924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4200"/>
            <a:ext cx="23461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4200"/>
            <a:ext cx="31939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4200"/>
            <a:ext cx="23464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55179-561D-4B15-8C1A-F0294448B432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E16F3-C45F-4EEF-83A1-AB8FD183666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2376000"/>
            <a:ext cx="906948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64000"/>
          </a:bodyPr>
          <a:p>
            <a:pPr marL="219240" indent="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19240" indent="-21924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19240" indent="-21924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19240" indent="-21924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9240" indent="-21924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9240" indent="-21924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9240" indent="-21924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5164200"/>
            <a:ext cx="23461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5164200"/>
            <a:ext cx="31939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5164200"/>
            <a:ext cx="23464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40141-285C-44FB-9A8D-75F5B3BCCD9C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4FB98-EB86-4FC7-A100-59F122E0454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709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02920" y="2376000"/>
            <a:ext cx="907092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376360" y="2376360"/>
            <a:ext cx="719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s work is licensed under a Creative Commons Attribution-ShareAlike 3.0 Unported License.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 makes use of the works of Mateus Machado Lun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16120" y="2716200"/>
            <a:ext cx="838080" cy="29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0T16:17:59Z</dcterms:created>
  <dc:creator/>
  <dc:description/>
  <dc:language>en-US</dc:language>
  <cp:lastModifiedBy/>
  <cp:revision>1</cp:revision>
  <dc:subject/>
  <dc:title>Blueprint Plans</dc:title>
</cp:coreProperties>
</file>