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91C-30EA-4670-86D3-6DDEB5A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012-5317-43EF-BBF0-A62FC960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8B2-88DF-4CDC-9DE5-BE42718B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D41-FECB-4C8C-82E8-06FE6791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DF91-D183-43A2-969F-8B86E34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A77E-C8D7-447B-8471-22B770A8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0E1D-1AC8-465D-A665-950C59FF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7729-F91C-4B35-A373-AF4C158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4BF4-F73B-4A5D-904F-524D925E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A98A-16C9-4DE1-A3F7-99CB7A2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385A-AFCB-4AB9-B413-570C9E7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E6A-F18A-467B-A8FC-A5DE8F8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FA0-6E37-4545-90E1-BA976D2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C3F4-F581-43FB-A42C-81194CC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B7BA-305F-4FA8-8F13-3C88A8BB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E26C-FE26-489E-B60F-4F262C9F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EEA2-C069-4824-9387-FDA7EB87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850E7-3D29-47B5-AB67-ADC34D38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29ED-337E-4FA8-B8DE-A3D9C757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639A-5A46-4B3D-A3B0-CA695C5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560C-ABC1-408C-8ED9-B790F59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1D53-36E8-4F51-ADD2-1F820DEE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D46-D5CC-4B66-ABCB-4A0892FA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65B3-C3D6-4899-9651-FACE34E8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8FC1-0E60-45D5-A0AA-C61D0A3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C1C8-10A5-41D7-901C-AEDA727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DCE6-2974-4277-82EF-84CF1D1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D46A-72AA-4AD1-AB8A-4655CD80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7D67-C7D1-4992-936C-5DD720AA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A722-D2F8-4DE2-9EBF-3850B314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02E3-BDF4-4210-BFCE-0356F5AF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DE95-D3CC-4DDF-B347-A766B1B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2F31-6B33-4342-83A8-5F33EA4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5C7-B45E-4AC6-8230-A3CA585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C1FA-585A-45F0-B990-97B38F1A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5450-76B1-4689-8C2E-A994649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41E4-924A-4A99-8B3D-DC87ADD9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CC40-6340-422A-81D3-A5F9BB0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8028-C87B-46D6-9472-5F2096AF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0F44-1863-490C-AE86-D99D1B7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19E5-AA68-4F1F-80FC-726B6EBD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FA61-65BB-4AE6-BDFD-765EE6D8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23760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3814200"/>
            <a:ext cx="291996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22DE-375B-427B-93BA-E183CB7D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F75-C3B9-4B4F-BD17-4AA02EC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809640"/>
            <a:ext cx="9069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6DE-D0B5-4534-AB2E-5F472F9E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233-BA17-42FD-A782-1B8F0CC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8142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B22-4F31-42CA-B616-9301BE8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376000"/>
            <a:ext cx="44258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814200"/>
            <a:ext cx="9069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DB5-8EC5-4F08-BFA6-8853486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4000"/>
          </a:bodyPr>
          <a:p>
            <a:pPr marL="21924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E1245-C914-4ABF-B2F1-75477D9FA13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A00F7-16B0-47F1-9CCA-85AF4F9FBA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694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376000"/>
            <a:ext cx="906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4000"/>
          </a:bodyPr>
          <a:p>
            <a:pPr marL="21924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D2799-CCED-4CA5-8E84-71FAB2E9824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4961-DDC0-4FFF-B2C0-775EE2D2B3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809640"/>
            <a:ext cx="9070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2920" y="2376000"/>
            <a:ext cx="907092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76360" y="2376360"/>
            <a:ext cx="719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work is licensed under a Creative Commons Attribution-ShareAlike 3.0 Unported License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makes use of the works of Mateus Machado L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16120" y="2716200"/>
            <a:ext cx="838080" cy="29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16:17:59Z</dcterms:created>
  <dc:creator/>
  <dc:description/>
  <dc:language>en-US</dc:language>
  <cp:lastModifiedBy/>
  <cp:revision>1</cp:revision>
  <dc:subject/>
  <dc:title>Blueprint Plans</dc:title>
</cp:coreProperties>
</file>